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8F3-21A7-4682-9D2C-E7A92383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B75-8C31-474D-8B5F-967678B0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3F3-128E-49ED-9FBA-A6A3C3AD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8C3-B9BD-4D52-8CED-B1BC3E04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EF7-7CBB-4A61-80EC-3E8DA154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EDA-757C-4B06-9ED0-CE4B08F7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971-09A2-463A-A274-A4C7DE95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1E6-C99F-420D-B7D4-D13A0AF6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65F-51E1-42A6-9B21-54A7E894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834-AE57-4B69-B3FC-144FE04B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7B6-4E8D-4982-8126-8B8D33A0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13D-3C26-4D82-B8C3-05D89925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3471-98BB-4E42-8786-A9152F096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378000" y="476280"/>
            <a:ext cx="8285040" cy="27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http://razorpix.ru/s/37/doroga_protektor_zima_sneg_nast_alleya_solnce_nebo_tuchi_1920x128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http://xn----ftbebqosbgnd.xn--p1ai/uploads/posts/2012-06/1340371940_sosulki-6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http://www.tmfoto.ru/upload/iblock/78f/78f2e9d7aa9231751ed8d0ac220922a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vedtver.ru/data/uploads/2013-01/page/14659/130123pogoda.jpg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http://img-fotki.yandex.ru/get/5208/geteway.6/0_5028b_afa1378d_X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09Z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-162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028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ый снег пуши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оздухе круж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 землю ти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ает, лож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д утро сне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 забел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но пеленою все его оде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ный лес, что шап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акрылся чу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заснул под не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о, непробудн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3" descr="http://www.fonstola.ru/pic/201112/800x600/fonstola.ru-648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http://www.fonstola.ru/pic/201111/1024x768/fonstola.ru-4935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4:12:21Z</dcterms:created>
  <dc:creator>USER</dc:creator>
  <dc:description/>
  <dc:language>en-US</dc:language>
  <cp:lastModifiedBy>Пользователь Windows</cp:lastModifiedBy>
  <dcterms:modified xsi:type="dcterms:W3CDTF">2020-12-03T09:40:09Z</dcterms:modified>
  <cp:revision>37</cp:revision>
  <dc:subject/>
  <dc:title>Слайд 1</dc:title>
</cp:coreProperties>
</file>